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78B-5031-4519-A94F-CEE0A7AA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06E-3F1E-478A-9FBF-DE5EC53C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AFF-C40A-4396-8782-6364AD9B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2C2-9B60-4036-BC60-89CF4C2E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E55-6FAE-4BC1-BF4B-A0290308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C74-A040-4730-8037-60E0176A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F23-8F1C-4E18-8CE5-628E1D60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E33-2535-425E-8FA7-45500553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FA6-869F-4A26-AA97-FDBFD81E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658-7A32-47A2-8648-551A23B2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CED-2161-4EF9-9798-20FF1C75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F4E-E5DB-4664-9779-7432A09B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35F3-7875-4B48-93DF-1D66F40A5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98900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421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FE3-3A92-4446-8904-5AA6009112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’azione dei Fondi negli Stati membri assume la forma di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grammi operativi all’interno del quadro di riferimento strategico naziona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gni programma operativo copre un periodo tra il 1 gennaio 2007 e il 31 dicembre 201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 programma operativo copre solo uno dei tre obiettivi comunitari, salvo deroga concordata tra lo Stato membro e la Commiss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zione e approvazione dei programmi opera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2DA-714F-466F-9469-4E6228DDD3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a di intervento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86732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ecade la precedente suddivisione del territorio a livello intraregionale di cui al previgente art. 4 del regolamento (CE) 1260/9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’area di intervento è determinata a livello regio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e copre l’intero territorio della Regione interess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ulla base dell’elenco presentato dallo Stato alla Commissione Europea (art.6 reg. (CE) 1083/200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7AC-4AFD-4280-9CAB-D28CF59D92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55280" y="620280"/>
            <a:ext cx="7705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ovi Obie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00" y="126828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48000" y="249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844640"/>
            <a:ext cx="3095640" cy="12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o sviluppo e l’adeguamento strutturale delle Regioni che presentano ritardi nello svil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40360" y="1268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3640" y="335772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a riconversione economica e sociale delle zone con difficoltà strut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3640" y="472428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’ammodernamento delle politiche  e dei sistemi di istruzione, formazion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8000" y="393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40360" y="4221000"/>
            <a:ext cx="936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72000" y="184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nverg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lerare la convergenza degli Stati membri e regioni, in ritardo di sviluppo, migliorando le condizioni di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72000" y="335772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mpetitività regional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mpetitività e le attrattive delle regioni e l’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40360" y="4508640"/>
            <a:ext cx="3887640" cy="160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operazione territorial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operazione transfrontaliera e transnazionale mediante iniziative congiunte locali e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stituisce tutti i vari programmi INTER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705-B6BE-43EF-987F-E6CBBAA171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12360" y="620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ove Auto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7280" y="141300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48000" y="2637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3280" y="1989000"/>
            <a:ext cx="3456000" cy="10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40360" y="1413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3280" y="3284640"/>
            <a:ext cx="3456000" cy="130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Pag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 elaborare e presentare  le richieste di pagamento e di ricevere i pagamenti dalla Commission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3280" y="4869000"/>
            <a:ext cx="3456000" cy="14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rvizio di Controllo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volge attività di controllo sul sistema di gestione e sull’attendibilità delle domande finali di pagamento inoltrate alla Commissione Europ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Reg.  CE 438/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48000" y="393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48000" y="537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72000" y="198900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72000" y="328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Certific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 certificare  le dichiarazioni di spesa e le domande di pagamento prima del loro invio alla Commissi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72000" y="486900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utorità di Aud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(Ad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sponsabile  della verifica dell’efficace funzionamento del sistema di gestione  e di cont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827-B31D-4914-9C37-63FC90EE9E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rammi Oper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QSN si attua tramite i Programmi Operativi, documenti che declinano le priorità strategiche per settori e terri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 ciclo di programmazione 2007-2013 i 66 PO sono "monofondo", ciascun PO sarà cofinanziato da un solo Fondo strutturale. Ci sono dunque 42 PO finanziati dal Fondo Europeo di Sviluppo Regionale (FESR) e 24 PO finanziati dal Fondo Sociale Europeo (F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base alle tematiche affrontate e ai soggetti istituzionali competenti, i PO possono ess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az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in settori con particolari esigenze di integrazione a livello nazionale, la cui Autorità di Gestione è una Amministrazione Centrale (5 FESR, 3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multisettoriali, riferiti alle singole regioni gestiti dalle Amministrazioni Regionali. Per ciascuna Regione c’è un POR FESR e un POR FSE (21 FESR, 21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787-2A43-4247-8D03-1F4EC43790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terregionali (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I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: su tematiche in cui risulta particolarmente efficace un’azione fortemente coordinata fra Regioni che consenta di cogliere economie di scala e di scopo nell’attuazione degli interventi (Energia, Attrattori culturali naturali e turismo); gestiti dalle Regioni, con la partecipazione di centri di competenza nazionale o Amministrazioni centrali (2 FES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PO – ai fini della realizzazione degli interventi – si riferiscono ai tre Obiettivi della politica di coesione 2007/2013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mpetitività Regionale e Occupazione) sono compresi i 33 PO che riguardano tutte le regioni del Centro Nord – incluse le Province Autonome di Bolzano e Trento - e le tre regioni del Mezzogiorno: Abruzzo, Molise e Sardegn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V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nvergenza), sono compresi i 19 PO che riguardano le rimanenti regioni del Mezzogiorno: Basilicata, Calabria, Campania, Puglia e Sicil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operazione territoriale europea) sono compresi i 7 PO della cooperazione transfrontaliera, di cui 6 hanno come Autorità di Gestione una Regione italiana, i 4 PO della cooperazione transnazionale, tutti con Autorità di Gestione non Italiana, il PO cofinanziato dal FESR e dallo strumento di preadesione (IPA), i 2 PO cofinanziati dal FESR e dallo strumento di prossimità e di vicinato (ENPI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D1B-7C21-4988-B68B-086FA58BFF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1628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8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789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9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060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 promuovere uno sviluppo armonioso dell'insieme della Comunità, questa sviluppa e prosegue la propria azione intesa a realizzare il rafforzamento della sua coesione economica e soci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particolare la Comunità mira a ridurre il divario tra i livelli di sviluppo delle varie regioni ed il ritardo delle regioni meno favorite o insulari, comprese le zone rura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407664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i Stati membri conducono la loro politica economica e la coordinano anche al fine di raggiungere gli obiettivi dell'articolo 158. L'elaborazione e l'attuazione delle politiche e azioni comunitarie, nonché l'attuazione del mercato interno tengono conto degli obiettivi dell'articolo 158 e concorrono alla loro realizzazione. La Comunità appoggia questa realizzazione anche con l'azione che essa svolge attraverso fondi a finalità strutturale (Fondo europeo agricolo di orientamento e di garanzia, sezione « orientamento », Fondo sociale europeo, Fondo europeo di sviluppo regionale), la Banca europea per gli investimenti e gli altri strumenti finanziari esisten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E3A-FE97-4FF9-B146-A660FBEF4A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8000" y="2205000"/>
            <a:ext cx="86407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tt.158 e 159 del Tratta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1080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1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3/2006 dd.11 luglio 2006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regolamento gener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197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nti norm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71628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ovo approccio comunitario ai fondi struttura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508640"/>
            <a:ext cx="792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cepimento delle priorità comunitarie per uno sviluppo sostenibile, definite nel Consiglio europeo di Lisbona del 23 e 24 marzo 2000 e del Consiglio europeo di Goteborg del 15 e 16 giugno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La politica di coesione inquadra l’intervento dei Fondi strutturali non più quale atto aggiuntivo ed addizionale rispetto alle politiche di sviluppo nazionali ma quale elemento integrato, con le stesse,  preposto a garantire un ottimale e coordinato utilizzo di tali Fondi all’interno di un quadro strategico di sviluppo nazionale d’insieme che tenga conto tanto dei finanziamenti nazionali quanto di quelli europei in una visione integrata e priva di sovrapposizioni o di caren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EE4-EB60-48DB-8D84-E6BEAAE568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I DI INTERVEN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1844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LEMENTARIETÀ, COERENZA E CONFORMI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924280"/>
            <a:ext cx="6769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Fondi intervengono a complemento delle azioni nazionali, regionali e locali, integrandovi le priorità della Comunità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Commissione e gli Stati membri vigilano sulla coerenza dell’intervento dei Fondi e di quello degli Stati membri con le azioni, le politiche e le priorità della Comunità. La coerenza, in particolare, si fissa negli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ientamenti strategici della Comunit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ne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uadro di riferimento strategico naziona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i programmi operativ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o il seguente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2276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39640" y="4869000"/>
            <a:ext cx="1584360" cy="1152360"/>
            <a:chOff x="539640" y="4869000"/>
            <a:chExt cx="1584360" cy="1152360"/>
          </a:xfrm>
        </p:grpSpPr>
        <p:sp>
          <p:nvSpPr>
            <p:cNvPr id="59" name=""/>
            <p:cNvSpPr/>
            <p:nvPr/>
          </p:nvSpPr>
          <p:spPr>
            <a:xfrm>
              <a:off x="539640" y="508464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1280" y="486900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195640" y="5445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157720"/>
            <a:ext cx="19447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5445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04000" y="4508640"/>
            <a:ext cx="1944720" cy="1873080"/>
            <a:chOff x="6804000" y="4508640"/>
            <a:chExt cx="1944720" cy="1873080"/>
          </a:xfrm>
        </p:grpSpPr>
        <p:sp>
          <p:nvSpPr>
            <p:cNvPr id="65" name=""/>
            <p:cNvSpPr/>
            <p:nvPr/>
          </p:nvSpPr>
          <p:spPr>
            <a:xfrm>
              <a:off x="6877080" y="515772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04000" y="450864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706-DFBA-47C9-8F63-F7837DB7A3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 di intervento dei vari documenti all’interno della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429000"/>
            <a:ext cx="259056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quadramento degli obiettivi comunitari all’interno di quadro di riferimento strategico naz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QS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1640" y="4581360"/>
            <a:ext cx="274176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lizzazione di un Documento Unitario regionale per la realizzazione della politica di Coes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589720"/>
            <a:ext cx="36576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gramma Ope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ilizzo coordinato ed integrato dei Finanzia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omunitari, nazionali, regiona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32000" y="1844640"/>
            <a:ext cx="1944720" cy="1439640"/>
            <a:chOff x="3132000" y="1844640"/>
            <a:chExt cx="1944720" cy="1439640"/>
          </a:xfrm>
        </p:grpSpPr>
        <p:sp>
          <p:nvSpPr>
            <p:cNvPr id="73" name=""/>
            <p:cNvSpPr/>
            <p:nvPr/>
          </p:nvSpPr>
          <p:spPr>
            <a:xfrm>
              <a:off x="3205080" y="2205000"/>
              <a:ext cx="18288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rientamenti strategici e definizione obiettivi Comunit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2000" y="1844640"/>
              <a:ext cx="1944720" cy="1439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D2D-CC7D-4F29-9B5D-D2E6CB138D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557360"/>
            <a:ext cx="79912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orit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e più attraenti gli Stati membri, le regioni e le città migliorando l’accessibilità, garantendo una qualità e un livello adeguati di servizi e tutelando l’amb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muovere l’innovazione, l’imprenditorialità e lo sviluppo dell’economia della conoscenza mediante lo sviluppo della ricerca e dell’innovazione, comprese le nuove tecnologie dell’informazione e della comunicazion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re nuovi e migliori posti di lavoro attirando un maggior numero di persone verso il mercato del lavoro o l’attività imprenditoriale, migliorando l’adattabilità dei lavoratori e delle imprese e aumentando gli investimenti nel capitale um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La strategia di Lisbon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innovata per la crescita e l’occupazione e i programmi nazionali di riforma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ottolineano il ruolo dell’ambiente per la crescita, la competitività e l’occup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ccorre tener conto della protezione dell’ambiente nella preparazione dei programmi e dei progetti volti a promuovere lo sviluppo sostenib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1125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menti strategici comuni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6237360"/>
            <a:ext cx="777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municazione al Consiglio europeo di primavera - “Lavorare insieme per la crescita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occupazione - Il rilancio della strategia di Lisbona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 (2005) 24, 2.2.2005.11807/06 DT/g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C33-3FEC-4B06-BC84-AE1FA976BC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981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or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628640"/>
            <a:ext cx="770436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quadro delle priorità di finanziamento dei Fondi Comunitari viene definito secondo un rapporto gerarchico  d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egolamento comunitario 1083/200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uadro Strategico Nazionale (Q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rt.27 Reg. (CE) 1083 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42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comu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378936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dere le Regioni e l’Europa  più attraenti per gli investi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386064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’innovazione e la conoscenza a favore della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6360" y="386064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ovi e migliori posti di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860640"/>
            <a:ext cx="18003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mensione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rale/urb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58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n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501156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lioramento e valorizzazione delle risorse u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4869000"/>
            <a:ext cx="230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ozione e valorizzazione della ricerca  della innovazione per la competi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6360" y="494028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o sostenibile ed efficiente delle risorse ambient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5080" y="5011560"/>
            <a:ext cx="20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orizzazione delle risorse na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587700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ttività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6093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i e collega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580536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zione investimenti inter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5805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573408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sistemi produtti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6237360"/>
            <a:ext cx="25923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cit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iluppo urbano sosten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580-6279-4D8C-9D4E-82465989FE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28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 Unitario di Programmazione della Politica regionale di Coe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844640"/>
            <a:ext cx="70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 disposizioni del Quadro Strategico Nazionale (QSN) prevedono che ogni Regione adotti un documento nel quale declinare  la strategia specifica di politica regionale  di coesione all’interno della propria programmazione gene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2852640"/>
            <a:ext cx="2519280" cy="580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o Unitario di program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01336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generali comunitari con riferimento alle priorità definite dal Q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5516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politica reg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6021360"/>
            <a:ext cx="19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zione strumenti di Attu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602136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specifici comunitari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2360" y="515772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tenar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07664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dro di programmazione finanziaria unitaria delle riso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422100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ità regiona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5084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595008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Comunitari politica agric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407664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strutturali della politica di coe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35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91D-DEE0-4892-9793-28C84C8DBC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mini presentazione documenti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2133720"/>
            <a:ext cx="1584360" cy="1152360"/>
            <a:chOff x="395280" y="2133720"/>
            <a:chExt cx="1584360" cy="1152360"/>
          </a:xfrm>
        </p:grpSpPr>
        <p:sp>
          <p:nvSpPr>
            <p:cNvPr id="117" name=""/>
            <p:cNvSpPr/>
            <p:nvPr/>
          </p:nvSpPr>
          <p:spPr>
            <a:xfrm>
              <a:off x="395280" y="234936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6920" y="213372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195640" y="2637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716280"/>
            <a:ext cx="19443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4005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95280" y="4581360"/>
            <a:ext cx="1944720" cy="1873080"/>
            <a:chOff x="395280" y="4581360"/>
            <a:chExt cx="1944720" cy="1873080"/>
          </a:xfrm>
        </p:grpSpPr>
        <p:sp>
          <p:nvSpPr>
            <p:cNvPr id="123" name=""/>
            <p:cNvSpPr/>
            <p:nvPr/>
          </p:nvSpPr>
          <p:spPr>
            <a:xfrm>
              <a:off x="468360" y="523044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5280" y="458136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564000" y="1989000"/>
            <a:ext cx="345600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il 1 febbrai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emine massi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a commissione ha approvato gli orientamenti 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ottobre 2006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3716280"/>
            <a:ext cx="3456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5 mesi dall’adozione degli orientamenti strategici comunit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5516640"/>
            <a:ext cx="158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5157720"/>
            <a:ext cx="34560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 più breve tempo possibile e comunque non oltre 5 mesi dall’adozione degli orientamenti strategici comunitari ovvero entro il 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4BA-4092-40CE-9B93-C24A851B81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2:48:50Z</dcterms:created>
  <dc:creator>utente</dc:creator>
  <dc:description/>
  <dc:language>en-US</dc:language>
  <cp:lastModifiedBy>giampiero bianchini</cp:lastModifiedBy>
  <dcterms:modified xsi:type="dcterms:W3CDTF">2008-06-02T21:44:03Z</dcterms:modified>
  <cp:revision>63</cp:revision>
  <dc:subject/>
  <dc:title>Diapositiva 1</dc:title>
</cp:coreProperties>
</file>